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864-2427-4BF1-BC64-E0FBB951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E02C-58A6-4458-9166-D21AF263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DAE8-38C1-42F7-885B-8E28D9A2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F90-EE03-4E0A-AD10-4DF53E08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EA9-84DA-4E5F-A093-3C74D20A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10E-11C1-4A61-9C20-6C8E96123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C754-1916-429F-AB56-A47A554F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1A38-3E20-4D06-9FC7-F76E11CE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33A-CAD2-43D6-AF8E-F4BCCF7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FBEC-5184-4B8C-9FB8-7D9CA796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1545-951D-44E9-BA97-9042D4F7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219-7561-428F-B773-90EA43C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23F-B3A3-463B-B684-2C0A8EC6D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o.wikipedia.org/wiki/Monument" TargetMode="External"/><Relationship Id="rId2" Type="http://schemas.openxmlformats.org/officeDocument/2006/relationships/hyperlink" Target="http://ro.wikipedia.org/wiki/Roma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oseu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osseumu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e un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monum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uristic din </a:t>
            </a: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2"/>
              </a:rPr>
              <a:t>Rom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izitat de foarte mulţi turişti din toată lumea. El este probabil cea mai impresionantă clădire-ruină a Imperiului Roman. Cunoscut iniţial sub numele de Amfiteatrul Flavian, Colosseumul era cea mai mare construcţie a vremurilor sale şi astăzi este cel mai mare amfiteatru antic care poate fi vizit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6443640" y="62064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15103" y="3837"/>
                </a:moveTo>
                <a:lnTo>
                  <a:pt x="17679" y="6448"/>
                </a:lnTo>
                <a:lnTo>
                  <a:pt x="17679" y="4707"/>
                </a:lnTo>
                <a:lnTo>
                  <a:pt x="19455" y="4707"/>
                </a:lnTo>
                <a:lnTo>
                  <a:pt x="19455" y="8224"/>
                </a:lnTo>
                <a:lnTo>
                  <a:pt x="22066" y="10800"/>
                </a:lnTo>
                <a:lnTo>
                  <a:pt x="20412" y="10800"/>
                </a:lnTo>
                <a:lnTo>
                  <a:pt x="20412" y="17989"/>
                </a:lnTo>
                <a:lnTo>
                  <a:pt x="9793" y="17989"/>
                </a:lnTo>
                <a:lnTo>
                  <a:pt x="9793" y="10800"/>
                </a:lnTo>
                <a:lnTo>
                  <a:pt x="8140" y="10800"/>
                </a:lnTo>
                <a:close/>
              </a:path>
              <a:path fill="darkenLess" w="30205" h="21600">
                <a:moveTo>
                  <a:pt x="17679" y="6448"/>
                </a:moveTo>
                <a:lnTo>
                  <a:pt x="17679" y="4707"/>
                </a:lnTo>
                <a:lnTo>
                  <a:pt x="19455" y="4707"/>
                </a:lnTo>
                <a:lnTo>
                  <a:pt x="19455" y="8224"/>
                </a:lnTo>
                <a:close/>
              </a:path>
              <a:path fill="darkenLess" w="30205" h="21600">
                <a:moveTo>
                  <a:pt x="14180" y="14299"/>
                </a:moveTo>
                <a:lnTo>
                  <a:pt x="16025" y="14299"/>
                </a:lnTo>
                <a:lnTo>
                  <a:pt x="16025" y="17989"/>
                </a:lnTo>
                <a:lnTo>
                  <a:pt x="20412" y="17989"/>
                </a:lnTo>
                <a:lnTo>
                  <a:pt x="20412" y="10800"/>
                </a:lnTo>
                <a:lnTo>
                  <a:pt x="9793" y="10800"/>
                </a:lnTo>
                <a:lnTo>
                  <a:pt x="9793" y="17989"/>
                </a:lnTo>
                <a:lnTo>
                  <a:pt x="14180" y="1798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6659640" y="83664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15103" y="3837"/>
                </a:moveTo>
                <a:lnTo>
                  <a:pt x="17679" y="6448"/>
                </a:lnTo>
                <a:lnTo>
                  <a:pt x="17679" y="4707"/>
                </a:lnTo>
                <a:lnTo>
                  <a:pt x="19455" y="4707"/>
                </a:lnTo>
                <a:lnTo>
                  <a:pt x="19455" y="8224"/>
                </a:lnTo>
                <a:lnTo>
                  <a:pt x="22066" y="10800"/>
                </a:lnTo>
                <a:lnTo>
                  <a:pt x="20412" y="10800"/>
                </a:lnTo>
                <a:lnTo>
                  <a:pt x="20412" y="17989"/>
                </a:lnTo>
                <a:lnTo>
                  <a:pt x="9793" y="17989"/>
                </a:lnTo>
                <a:lnTo>
                  <a:pt x="9793" y="10800"/>
                </a:lnTo>
                <a:lnTo>
                  <a:pt x="8140" y="10800"/>
                </a:lnTo>
                <a:close/>
              </a:path>
              <a:path fill="darkenLess" w="30205" h="21600">
                <a:moveTo>
                  <a:pt x="17679" y="6448"/>
                </a:moveTo>
                <a:lnTo>
                  <a:pt x="17679" y="4707"/>
                </a:lnTo>
                <a:lnTo>
                  <a:pt x="19455" y="4707"/>
                </a:lnTo>
                <a:lnTo>
                  <a:pt x="19455" y="8224"/>
                </a:lnTo>
                <a:close/>
              </a:path>
              <a:path fill="darkenLess" w="30205" h="21600">
                <a:moveTo>
                  <a:pt x="14180" y="14299"/>
                </a:moveTo>
                <a:lnTo>
                  <a:pt x="16025" y="14299"/>
                </a:lnTo>
                <a:lnTo>
                  <a:pt x="16025" y="17989"/>
                </a:lnTo>
                <a:lnTo>
                  <a:pt x="20412" y="17989"/>
                </a:lnTo>
                <a:lnTo>
                  <a:pt x="20412" y="10800"/>
                </a:lnTo>
                <a:lnTo>
                  <a:pt x="9793" y="10800"/>
                </a:lnTo>
                <a:lnTo>
                  <a:pt x="9793" y="17989"/>
                </a:lnTo>
                <a:lnTo>
                  <a:pt x="14180" y="1798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scrierea fizică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hartă cu centrul Romei din timpul Imperiului roman, cu Colosseumul în colţul din dreapta 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 deosebire de amfiteatrele construite anterior între două dealuri, Colosseumul este o structură autonomă, în întregime construită. Planul său este eliptic, având 189 m lungime şi 156 m lăţime, aria sa fiind de 6 ha. Înălţimea zidului exterior este de 48 m. Perimetrul originar măsoară 545 m. Arena centrală este ovală, având 86 m lungime şi 156 m lăţime, înconjurată de un zid de 4,5 m înălţime, care se ridică până la nivelul primelor rânduri pentru spect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cruri de interi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În conformitate cu Calendarul Codex din 354, Colosseumul ar putea găzdui 87.000 de oameni, cu toate că estimările moderne pun cifra la aproximativ 50.000. Ei au fost aşezaţi într-un aranjament pe niveluri, care reflecta natura rigidă stratificată a societăţii romane. Cuti speciale, erau puse la sfârşitul nordului şi sudului, respectiv, pentru împărat şi Virginele Vestal, oferind cele mai bune puncte de vedere ale arene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na</cp:lastModifiedBy>
  <dcterms:modified xsi:type="dcterms:W3CDTF">2010-04-21T20:28:31Z</dcterms:modified>
  <cp:revision>13</cp:revision>
  <dc:subject/>
  <dc:title>PowerPoint Presentation</dc:title>
</cp:coreProperties>
</file>